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956-1779-46B5-9910-2DC74DFE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E95-76A3-4EA4-8C2A-7E04EFF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1D9-6074-4F98-B040-63A64EA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A24-0622-4D79-BF3C-CB43DBA8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D53-175E-48E0-8B4D-4003336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581-FDCE-4434-AC27-4F18D08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CEA-F7C9-41F7-9FFA-1D94084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F60-501D-4726-A7DD-6DDC12EB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932-B7CD-4AC7-B2F2-E7058E39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1D-454F-477B-80C5-F96E461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5E9-560D-41BE-8F67-3194EB8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737-C163-4B9D-A9FC-56F9F52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F39-ABB8-49EA-A2DA-4E35EBAD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thics.state.tx.us/images/links/judge.gif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bbsnews.net/images/saxby.jpg&amp;imgrefurl=http://bbsnews.net/bw2003-07-25.html&amp;h=502&amp;w=396&amp;sz=14&amp;hl=en&amp;start=4&amp;sig2=ZG14mOWdg-wYRf_alQcUhg&amp;um=1&amp;tbnid=Wt4DFRi-JV9lKM:&amp;tbnh=130&amp;tbnw=103&amp;ei=Vy7PR6vyBpeMigHuialu&amp;prev=/images%3Fq%3Dsaxby%2Bchambliss%26um%3D1%26hl%3Den%26rls%3Dcom.microsoft:*:IE-SearchBox%26rlz%3D1I7DKUS%26sa%3DX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United States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Three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00200" y="68580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Legisla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63904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2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59160" y="211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85800"/>
            <a:ext cx="373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The legislative branch is made up of the two houses of Congress- the Senate and the House of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27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381560" cy="300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6104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 most important duty of the legislative branch is to mak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re are 100 senators in the senate, two from each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There are 435 representatives in the House of Representatives.  The number of representatives is based on each state’s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ay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head of the country, like the executive of a busin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of the United States. So, just remember that the President is like an executive of a company and that he is in charge of the executive bra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akes up the judicial bran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. And judges and judicial both begin with “Ju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job of this branch is to make laws. And laws and legislative both start with “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three branches of governmen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Executive- President, Vice President, Cabine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- Supreme Court System,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egislative- Senate,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branches each have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xecu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enforces laws, makes sure people obe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: reviews and explains th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Legisla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make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branch do I work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am the President of the United Stat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day long I make laws…more and more law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my jobs is make sure people obey the laws. In other words, I enforce law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branch do I work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day, I looked at two laws and reviewed them. I decided they were constitutional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y name is Saxby Chambliss. I am one of the senators from Georgia.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gis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job is the Chief Justice of the Supreme Cour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371600"/>
            <a:ext cx="157500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248520" y="480060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00800" y="3200400"/>
            <a:ext cx="981000" cy="123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ree Branches of Government Hanger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pair of students should have one b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bag contains enough supplies for everyone to make their own h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ach person should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 cla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long piece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 medium pieces of paper (red, white,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 yellow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 h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ick of glue to shar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Get your large piece of paper and write “Three Branches of Government”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Use your clasps to clasp it to your h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get your medium pieces of paper and write “Executive” on one, “Legislative” on the other, and “Judicial” on the las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nnect these to the bottom of the hanger, using your clas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rite the items on the sheet on each of your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n match the stars to the correct branch and glue the stars on the piece of paper with the correct branch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ork with your partner to make sure you match the stars to the correct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ook at the summary if you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3880"/>
            <a:ext cx="40384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Garamond"/>
              </a:rPr>
              <a:t>What has three branches but no tr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Garamond"/>
              </a:rPr>
              <a:t>The branches of gov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838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54100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Legis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2004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22100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19720" y="487692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133720"/>
            <a:ext cx="1523880" cy="167616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37160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re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6002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8862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6576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114800"/>
            <a:ext cx="152424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114800"/>
            <a:ext cx="1523880" cy="1676520"/>
          </a:xfrm>
          <a:prstGeom prst="irregularSeal1">
            <a:avLst/>
          </a:prstGeom>
          <a:solidFill>
            <a:srgbClr val="e3e7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of these on your stars. Make your stars look just like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three branches of government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Executive- President, Vice President, Cabine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- Supreme Court System,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egislative- Senate, House of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branches each have 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xecu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enforces laws, makes sure people obe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icial: reviews and explains th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Legislativ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: make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ost-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ame the three branches of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makes law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makes sure people obey the l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ich branch reviews and explains the la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541044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838080"/>
            <a:ext cx="62485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Execu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7621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aramond"/>
              </a:rPr>
              <a:t>The President of The United States is the head of the Executive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895480" cy="416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23880"/>
            <a:ext cx="624852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Agricultur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he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Commerc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ealth and Human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omeland Secu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Housing and Urban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ranspor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ecretary of Veterans' Affai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utive Branch also includes the Vice President and other officials, such as members of the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600200"/>
            <a:ext cx="4343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Stat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Lab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the Treasury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Secretary of Defens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Attorney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2629080" cy="257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533520"/>
            <a:ext cx="870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e executive branch enforces the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his branch makes sure that the laws are being obe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080" y="685800"/>
            <a:ext cx="54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The Judic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Garamond"/>
              </a:rPr>
              <a:t>Bran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523880"/>
            <a:ext cx="3886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The United States Supreme Court is the head of the 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79080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2943360"/>
            <a:ext cx="6858000" cy="3914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080" y="193680"/>
            <a:ext cx="870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The judicial branch is in charge of the court system of the United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The judicial branch reviews and explain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Rules on whether something is unconstitutional or constitu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Garamond"/>
              </a:rPr>
              <a:t>And who makes up the cour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8:49:49Z</dcterms:created>
  <dc:creator>Don</dc:creator>
  <dc:description/>
  <dc:language>en-US</dc:language>
  <cp:lastModifiedBy>Don</cp:lastModifiedBy>
  <dcterms:modified xsi:type="dcterms:W3CDTF">2008-12-20T03:55:21Z</dcterms:modified>
  <cp:revision>18</cp:revision>
  <dc:subject/>
  <dc:title>The United States Government</dc:title>
</cp:coreProperties>
</file>